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cashreg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E7E6-8126-44D0-9F39-939929EC7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181F-A922-433C-A7A9-33C436136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3DB6-6C24-45D1-A388-2C9A849C8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6360-B4ED-45C5-A0A7-C1E528758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15DF-D53B-420B-828A-071E351D6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BA99-AC51-4904-9317-77F256940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3FBE-BEEB-4264-A2BC-85E42DBE6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1F90-EC92-4598-8B02-13637E4FF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121E-CA4B-47B0-989A-5692BF092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95B2-2D2D-4759-9CBD-291B5BC8D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DCF2-C83E-4111-880C-CC3862C1A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682D-97BA-4BEC-B2E2-7431864B2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8C9-0749-4DA2-81E1-7829AB0C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3D0-186D-45DD-B0A7-ACA7895D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A50-F94A-4F90-8107-C47770FB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C53-B687-4BCB-9675-C07F975F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160A-E3B1-40A2-884E-EB91C0CA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E81A-B139-49B2-9F1F-78CF26BB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B014-A111-437F-92D9-82ED9F20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3A48-E671-45F7-BF10-A09F5042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936A-E599-4083-954C-C95CA532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92F6-8F88-4D05-9B3B-30892782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3B25-A0F3-4BC9-A6DE-115C4FD5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B7E-0C03-484A-950E-C4DEDDDC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6055-FBDA-47E3-845F-C414999A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8FC3-76EC-4E37-BEDF-2C9B0B7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8B2F-FA2C-49FC-9ED2-C6F8F380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5FF4-F96C-4DDD-BDA8-9595BC1B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98CE-5759-4500-9C8F-BA2358EA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A6299-FBF5-47D1-B614-71650E98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E8F7-AA64-4E3C-9D48-AB371918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8AF6-F2BC-4891-841E-D7415CAF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E397-CF21-4B7D-9CA3-F56FDD01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5B6C-C98D-4FCA-B637-13386F16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75B-6FA9-474A-9462-E7723FCE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3181-7C42-4BAC-9BF7-7DB5EFF4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1C62-89F9-4B4E-9DA9-CD630BBE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7B90-AD51-4ABB-BC46-3DEC261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49EE-1A5A-4AE3-A5BB-8643081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31C6-17E0-4D8B-80BA-7514A3A9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2564-5E40-4EEA-8BCE-F5730B3B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7CA7-4E84-4609-A7F1-85AACC07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74D2-4536-47F1-BFB0-238B0574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AC7EE-7019-42B7-8DD3-015C0DBD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9D43-3060-443B-A351-60E4B445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FC1-A6C4-4955-A475-A70F87A3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94B0-9E5C-4245-9521-5F3D38B4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2986A-EA98-47DC-AD46-EE3C5F0F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8440C-E03A-4705-A284-0CB62256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70D4-1C76-4E22-BB2B-D6922B8D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7E578-77D4-4DA5-841E-47690A3F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A655-1079-4550-8928-D222408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C3073-0706-491F-A5CA-0D5CAA92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F5B33-93EE-4C24-83BD-14D132C2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8138A-119C-4C4A-9223-DB223428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36D5-EC69-4C2A-84E3-5F791F65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0F0-7CE2-49A6-B2EF-9792E215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4092-6377-4CA4-803C-6169DD26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66EC0-3EA1-47B0-A71D-362A70BC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78B64-6449-4B2C-8E02-F75511E1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45D0C-4962-4016-BD56-A9554FA0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831E0-65D4-4032-8379-B562B267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17952-780B-4574-98BC-A061CE3F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06037-AF67-4437-B88C-40B7B44C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0180B-0311-4CB8-BDBA-5EBBB0A1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B30C-FB48-4E92-9069-C30D450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2FF02-6E5C-4AA6-A7FF-77C433BE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56C-EE4D-4B9B-8300-E1CFB722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442D7-3C68-4FBF-991F-5B62B493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4CD-8286-410F-80BB-D2FDB5AD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6AB-B87E-4EB5-82CB-F65BE2D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5E1-F936-4C47-A687-0332EF1B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5631-EA4A-4DB0-9F35-89991E6D1DC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AC86-1989-425D-8450-5916D36E97E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F9A6-E044-4988-A0A8-FAD0D6300FC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E208-7208-4297-BB07-4CA4D9340C9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9E94-CAB6-449E-B2A4-67EBFDA0F98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onedlink.org/lesson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Ch. 7 Economic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lementary Social Studies; A Practical Gu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766f"/>
                </a:solidFill>
                <a:latin typeface="Verdana"/>
              </a:rPr>
              <a:t>Created by, Lee-Anne T. Spalding, M. 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C:\Program Files\Microsoft Office\MEDIA\CAGCAT10\j0222015.wmf"/>
          <p:cNvPicPr/>
          <p:nvPr/>
        </p:nvPicPr>
        <p:blipFill>
          <a:blip r:embed="rId1"/>
          <a:stretch/>
        </p:blipFill>
        <p:spPr>
          <a:xfrm>
            <a:off x="152280" y="3505320"/>
            <a:ext cx="273384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one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rning Experiences p. 23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cy from around the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ning Money p. 23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nding Money p.23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tch My Education Lab video- Econo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Class store id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ank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re banks?  Other examples of economic institu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responses have you heard in your interview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kidsbank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king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a Safe Pla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nk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 Tr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Why Economics Education? Economic Vocabular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is it important to educate students in the area of economic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literacy (personal finance, financial education, financial planning), consumer literacy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K Economic Standa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K.E.1.1: Describe different kinds of jobs that people do and the tools or equipment us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K.E.1.2: Recognize that United States currency comes in different form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K.E.1.3: Recognize that people work to earn money to buy things they need or wan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K.E.1.4: Identify the difference between basic needs and want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3</a:t>
            </a:r>
            <a:r>
              <a:rPr b="1" lang="en-US" sz="3600" spc="-1" strike="noStrike" baseline="30000">
                <a:solidFill>
                  <a:srgbClr val="ff8d3e"/>
                </a:solidFill>
                <a:latin typeface="Verdana"/>
              </a:rPr>
              <a:t>rd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Grade Economic Standa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3.E.1.1: Give examples of how scarcity results in trad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3.E.1.2: List the characteristics of money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3.E.1.3: Recognize that buyers and sellers interact to exchange goods and services through the use of trade or money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S.3.E.1.4: Distinguish between currencies used in the United States, Canada, Mexico, and the Caribbea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5</a:t>
            </a:r>
            <a:r>
              <a:rPr b="1" lang="en-US" sz="3600" spc="-1" strike="noStrike" baseline="30000">
                <a:solidFill>
                  <a:srgbClr val="ff8d3e"/>
                </a:solidFill>
                <a:latin typeface="Verdana"/>
              </a:rPr>
              <a:t>th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Grade Economic Standa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.5.E.1.1: Identify how trade promoted economic growth in North America from pre-Columbian times to 1850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.5.E.1.2: Describe a market economy, and give examples of how the colonial and early American economy exhibited these characteristic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.5.E.1.3: Trace the development of technology and the impact of major inventions on business productivity during the early development of the United States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.5.E.2.1: Recognize the positive and negative effects of voluntary trade among Native Americans, European explorers, and colonist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National Economic Standar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Council on Economic Edu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//www.NCEE.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econedlink.org/les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FREE lesson plans; most are tied to quality children’s literatu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The Three Little Pigs, Town Mouse Country Mouse, Click, Clack Moo Cows that Typ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or online stories (provided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Rationale for Teaching Economic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 Reasoning-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(problem solvin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1.  Identify the question or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2.  List the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3.  Identify advantages and disadvantages of each altern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4.  Choose the best altern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5.  Reevaluate the consequences of the de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ample problem:  Soaring fuel cost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work in cooperative groups to discuss the issue; complete the shee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trategies for Teach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s and Benefi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01480" indent="-26496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 pe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on and Ex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 food items; pancak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ncakes, Pancakes! By Eric Car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equence chart; ask critical thinking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Advertisement Activities </a:t>
            </a:r>
            <a:r>
              <a:rPr b="1" lang="en-US" sz="2200" spc="-1" strike="noStrike">
                <a:solidFill>
                  <a:srgbClr val="ff8d3e"/>
                </a:solidFill>
                <a:latin typeface="Verdana"/>
              </a:rPr>
              <a:t>p. 230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YOUTUBE clip ie. Ads from the Super Bow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es advertise their goods and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s must distinguish between F and 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 Advertising ID 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21:07:13Z</dcterms:created>
  <dc:creator>Lee-Anne</dc:creator>
  <dc:description/>
  <dc:language>en-US</dc:language>
  <cp:lastModifiedBy>testuser</cp:lastModifiedBy>
  <dcterms:modified xsi:type="dcterms:W3CDTF">2009-03-18T15:06:57Z</dcterms:modified>
  <cp:revision>10</cp:revision>
  <dc:subject/>
  <dc:title>Ch. 7 Economics</dc:title>
</cp:coreProperties>
</file>